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3216B-0BEA-42D2-B450-E564BD2EE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130A6-EDF9-4C82-B0FB-44309A72F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avigating Through Foreclosure,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nkruptcy and Other Leg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S Law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oreclos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closures governed by MERS Membership Rule 8: Judicial versus Non-Judicial Fore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completion of foreclosure, remove M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it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of foreclosing in MERS’ name: key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nkrupt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s of Claim and Motions for Relief from Automatic Stay: MERS standing as mortgagee and holder of the 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Member Bulletin No.: 2008-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ases: Nev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air Credit Reporting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r Credit Reporting Act (FC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and non-members use information on the MERS® System to make loan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ions of consumer disputes must be completed within 30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4" descr="MPj03988310000[1]"/>
          <p:cNvPicPr/>
          <p:nvPr/>
        </p:nvPicPr>
        <p:blipFill>
          <a:blip r:embed="rId1"/>
          <a:stretch/>
        </p:blipFill>
        <p:spPr>
          <a:xfrm>
            <a:off x="3048120" y="914400"/>
            <a:ext cx="6400440" cy="4571640"/>
          </a:xfrm>
          <a:prstGeom prst="rect">
            <a:avLst/>
          </a:prstGeom>
          <a:ln w="9525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3</TotalTime>
  <Application>LibreOffice/7.4.7.2$Linux_X86_64 LibreOffice_project/40$Build-2</Application>
  <AppVersion>15.0000</AppVersion>
  <Words>97</Words>
  <Paragraphs>16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44:34Z</dcterms:created>
  <dc:creator>karmelal</dc:creator>
  <dc:description>www.condorcom.com</dc:description>
  <dc:language>en-US</dc:language>
  <cp:lastModifiedBy>karmelal</cp:lastModifiedBy>
  <dcterms:modified xsi:type="dcterms:W3CDTF">2010-06-14T14:25:51Z</dcterms:modified>
  <cp:revision>4</cp:revision>
  <dc:subject/>
  <dc:title>Navigating Through Foreclosure, Bankruptcy and Other Legal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